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D6A8-50BB-4A47-9B88-375EC6BF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1EEA-370F-4970-B065-BFF681B7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002-230E-44B1-A02E-177753DA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4D0-4468-454E-89E8-EC3BFF45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E0E-86E0-4266-A312-E98C921D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DB0-4B72-4093-8BB5-F2FCF9A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FEA1-641A-40FA-889F-7DDB4A49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DF5-574C-4D37-B6C7-FEB090BB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D7D-E5D0-4283-8FF0-57A91029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EB5-1490-4E3F-BF11-48A1366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408-23F2-442E-99DF-27B2C451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D85-00EF-4CDB-87BD-62803A3E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C39D-9FD0-4744-8842-66B8DB43E94E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.B. „World of Warcraft“, „Flyff“, „Metin“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macht den Reiz a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in der Gemeinschaft („Community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rfolgserlebnisse nach bestandenen Abenteuern („Quests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iesige Spielwelten -&gt; viel zu entde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hantastische Spielfiguren („Charaktere“) mit „übermenschlichen“ Fähigkei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Karte von World of Warcraf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50" name="Inhaltsplatzhalter 8" descr="WorldmapOfWarcraft_RC3.jpg"/>
          <p:cNvPicPr/>
          <p:nvPr/>
        </p:nvPicPr>
        <p:blipFill>
          <a:blip r:embed="rId3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tem- und Fähigkeiten-Ansich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nhaltsplatzhalter 7" descr="Item_Socketing.jpg"/>
          <p:cNvPicPr/>
          <p:nvPr/>
        </p:nvPicPr>
        <p:blipFill>
          <a:blip r:embed="rId2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Spielersicht in einer Instanz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60" name="Inhaltsplatzhalter 8" descr="woww.jpg"/>
          <p:cNvPicPr/>
          <p:nvPr/>
        </p:nvPicPr>
        <p:blipFill>
          <a:blip r:embed="rId3"/>
          <a:stretch/>
        </p:blipFill>
        <p:spPr>
          <a:xfrm>
            <a:off x="1619280" y="1600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ritische Begleiterscheinun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nline-Verabredungsdruck im T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auer einzelner „Quests“ bis zu 5 St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chstumsdruck , um den Anschluss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n die Gruppe halten zu kön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komplexität begünstigt Suchtver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Laufende Kosten: Monats-Abo (WoW) oder optionale „Charakterupgrades“ (Flyff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Realität </a:t>
            </a:r>
            <a:r>
              <a:rPr b="0" lang="de-DE" sz="4000" spc="-1" strike="noStrike">
                <a:solidFill>
                  <a:srgbClr val="ffc000"/>
                </a:solidFill>
                <a:latin typeface="Wingdings"/>
                <a:ea typeface="Wingdings"/>
              </a:rPr>
              <a:t></a:t>
            </a: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Virtualitä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ealitätsflucht als Gefahr, Symptom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wechslung der PC-Tätigkeiten nimmt a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utzungsdauer erhöht sich drastis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Pflichten werden vernachläss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ntgegenwir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emeinsame Aktivitäten pla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Erlebnisse, z.B. Wochenendurlau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ventuell professionellen Rat suc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6-24T15:53:12Z</dcterms:modified>
  <cp:revision>140</cp:revision>
  <dc:subject/>
  <dc:title>Folie 1</dc:title>
</cp:coreProperties>
</file>